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A16F7-F382-447C-8E9B-B6F1FD67FA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3268B-CB5D-4AC2-8DBE-04C15C347A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E3345-CF2F-477B-BB57-5B87B4306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4BB71-C7C5-49E1-9CCF-687BBDA0C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77721-2331-4700-A226-45EDD7DF5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64A62-23B1-4086-BEE3-500507EED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12BF7-F466-456E-BA9E-AC31C3742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B2EF8-4ECF-40EC-B7EC-30FD6FB76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DD898-1BAB-457F-BB1E-77CB5E062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6D030-2603-454B-B072-5F9FDBFEF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21ABA-97F9-4133-A75D-35BC7002D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B61BF-F20E-42B3-8F8E-1DDE4DC8A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F3B52-E5BB-4234-AE9F-B0251B928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D7094-5FEC-4592-B09B-066233DBE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22C95-F396-4F3D-A6B9-D4F0BF5089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wo lines cut by transvers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5" descr="Picture 3"/>
          <p:cNvPicPr/>
          <p:nvPr/>
        </p:nvPicPr>
        <p:blipFill>
          <a:blip r:embed="rId1"/>
          <a:stretch/>
        </p:blipFill>
        <p:spPr>
          <a:xfrm>
            <a:off x="1828800" y="1905120"/>
            <a:ext cx="594360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ertical ang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5105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gles opposite each other at the intersection of two l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7" descr="Picture 3"/>
          <p:cNvPicPr/>
          <p:nvPr/>
        </p:nvPicPr>
        <p:blipFill>
          <a:blip r:embed="rId1"/>
          <a:stretch/>
        </p:blipFill>
        <p:spPr>
          <a:xfrm>
            <a:off x="1981080" y="1550880"/>
            <a:ext cx="4648320" cy="321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near pai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62120" y="5105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gles that are adjacent and form a straight 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9" descr="Picture 3"/>
          <p:cNvPicPr/>
          <p:nvPr/>
        </p:nvPicPr>
        <p:blipFill>
          <a:blip r:embed="rId1"/>
          <a:stretch/>
        </p:blipFill>
        <p:spPr>
          <a:xfrm>
            <a:off x="2286000" y="1981080"/>
            <a:ext cx="4648320" cy="321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ior/Exterior ang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4952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ior angles are inside the two parallel l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rior angles are outside the two // l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5" descr="Picture 9"/>
          <p:cNvPicPr/>
          <p:nvPr/>
        </p:nvPicPr>
        <p:blipFill>
          <a:blip r:embed="rId1"/>
          <a:stretch/>
        </p:blipFill>
        <p:spPr>
          <a:xfrm>
            <a:off x="1981080" y="1620720"/>
            <a:ext cx="4953240" cy="334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ternate Exterior ang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762120" y="4952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wo angles that lie outside the two lines and on opposite sides of the transversa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5" descr="Picture 13"/>
          <p:cNvPicPr/>
          <p:nvPr/>
        </p:nvPicPr>
        <p:blipFill>
          <a:blip r:embed="rId1"/>
          <a:stretch/>
        </p:blipFill>
        <p:spPr>
          <a:xfrm>
            <a:off x="2819520" y="1433520"/>
            <a:ext cx="3809880" cy="33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ternate interior ang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411444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wo angles that lie between the two lines and on opposite sides of the transvers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5" descr="Picture 14"/>
          <p:cNvPicPr/>
          <p:nvPr/>
        </p:nvPicPr>
        <p:blipFill>
          <a:blip r:embed="rId1"/>
          <a:stretch/>
        </p:blipFill>
        <p:spPr>
          <a:xfrm>
            <a:off x="3357720" y="1981080"/>
            <a:ext cx="242712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rresponding ang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5028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wo angles that occupy corresponding pos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5" descr="Picture 12"/>
          <p:cNvPicPr/>
          <p:nvPr/>
        </p:nvPicPr>
        <p:blipFill>
          <a:blip r:embed="rId1"/>
          <a:stretch/>
        </p:blipFill>
        <p:spPr>
          <a:xfrm>
            <a:off x="2514600" y="1579680"/>
            <a:ext cx="3657600" cy="35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e side interior/Consecu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4800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wo angles are consecutive if they lie between two lines on the same side of the transvers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5" descr="Picture 15"/>
          <p:cNvPicPr/>
          <p:nvPr/>
        </p:nvPicPr>
        <p:blipFill>
          <a:blip r:embed="rId1"/>
          <a:stretch/>
        </p:blipFill>
        <p:spPr>
          <a:xfrm>
            <a:off x="2666880" y="1860480"/>
            <a:ext cx="3657600" cy="28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rallel Postul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5" descr="Picture 17"/>
          <p:cNvPicPr/>
          <p:nvPr/>
        </p:nvPicPr>
        <p:blipFill>
          <a:blip r:embed="rId1"/>
          <a:stretch/>
        </p:blipFill>
        <p:spPr>
          <a:xfrm>
            <a:off x="609480" y="1981080"/>
            <a:ext cx="8763120" cy="332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pendicular Postul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5" descr="Picture 18"/>
          <p:cNvPicPr/>
          <p:nvPr/>
        </p:nvPicPr>
        <p:blipFill>
          <a:blip r:embed="rId1"/>
          <a:stretch/>
        </p:blipFill>
        <p:spPr>
          <a:xfrm>
            <a:off x="838080" y="1981080"/>
            <a:ext cx="8305920" cy="33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rallel l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5105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es that are coplanar and do not inters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5" descr="Picture 1"/>
          <p:cNvPicPr/>
          <p:nvPr/>
        </p:nvPicPr>
        <p:blipFill>
          <a:blip r:embed="rId1"/>
          <a:stretch/>
        </p:blipFill>
        <p:spPr>
          <a:xfrm>
            <a:off x="2209680" y="1981080"/>
            <a:ext cx="5105520" cy="268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kew l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5028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es that do not intersect and are not coplan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Picture 2"/>
          <p:cNvPicPr/>
          <p:nvPr/>
        </p:nvPicPr>
        <p:blipFill>
          <a:blip r:embed="rId1"/>
          <a:stretch/>
        </p:blipFill>
        <p:spPr>
          <a:xfrm>
            <a:off x="2590920" y="1981080"/>
            <a:ext cx="3809880" cy="27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rallel pla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5181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wo planes that do not inters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5" descr="Picture 4"/>
          <p:cNvPicPr/>
          <p:nvPr/>
        </p:nvPicPr>
        <p:blipFill>
          <a:blip r:embed="rId1"/>
          <a:stretch/>
        </p:blipFill>
        <p:spPr>
          <a:xfrm>
            <a:off x="2743200" y="1981080"/>
            <a:ext cx="3581280" cy="312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rallel pla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5" descr="Picture 5"/>
          <p:cNvPicPr/>
          <p:nvPr/>
        </p:nvPicPr>
        <p:blipFill>
          <a:blip r:embed="rId1"/>
          <a:stretch/>
        </p:blipFill>
        <p:spPr>
          <a:xfrm>
            <a:off x="1066680" y="1981080"/>
            <a:ext cx="6934320" cy="364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5" descr="Screen shot 2010-10-25 at 9"/>
          <p:cNvPicPr/>
          <p:nvPr/>
        </p:nvPicPr>
        <p:blipFill>
          <a:blip r:embed="rId1"/>
          <a:stretch/>
        </p:blipFill>
        <p:spPr>
          <a:xfrm>
            <a:off x="685800" y="1231920"/>
            <a:ext cx="7772400" cy="42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3" descr="Screen shot 2010-10-25 at 9"/>
          <p:cNvPicPr/>
          <p:nvPr/>
        </p:nvPicPr>
        <p:blipFill>
          <a:blip r:embed="rId1"/>
          <a:stretch/>
        </p:blipFill>
        <p:spPr>
          <a:xfrm>
            <a:off x="762120" y="609480"/>
            <a:ext cx="76784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3" descr="Screen shot 2010-10-25 at 9"/>
          <p:cNvPicPr/>
          <p:nvPr/>
        </p:nvPicPr>
        <p:blipFill>
          <a:blip r:embed="rId1"/>
          <a:stretch/>
        </p:blipFill>
        <p:spPr>
          <a:xfrm>
            <a:off x="878040" y="609480"/>
            <a:ext cx="73879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nsvers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5028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e that intersects two or more coplanar lines at different po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Picture 6"/>
          <p:cNvPicPr/>
          <p:nvPr/>
        </p:nvPicPr>
        <p:blipFill>
          <a:blip r:embed="rId1"/>
          <a:stretch/>
        </p:blipFill>
        <p:spPr>
          <a:xfrm>
            <a:off x="2057400" y="1981080"/>
            <a:ext cx="5257800" cy="303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8T23:22:01Z</dcterms:created>
  <dc:creator>PSD</dc:creator>
  <dc:description/>
  <dc:language>en-US</dc:language>
  <cp:lastModifiedBy>test</cp:lastModifiedBy>
  <cp:lastPrinted>2009-11-09T00:36:18Z</cp:lastPrinted>
  <dcterms:modified xsi:type="dcterms:W3CDTF">2014-10-01T16:50:48Z</dcterms:modified>
  <cp:revision>9</cp:revision>
  <dc:subject/>
  <dc:title>3.2</dc:title>
</cp:coreProperties>
</file>